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F981-7883-487E-AC02-855491F4F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ED94-3E8F-46A6-9B94-E54C15453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s - Cells of the same type joined together for a common purp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D0AC-D1D9-4802-9000-BEAF9FDBB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connective tissue (CT prope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olar: support; collagen and elastin fibers, thin and glistening, wraps and cushions organs, ner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ipose (fat): signet ring shaped cells; stores fat as reserve food or energy source, insulates body, acts as pad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cular: soft internal skeleton i.e. lymph nodes, spl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ous (dense regular CT): tensile strength when force is in one direction i.e. tendons, ligaments, fasciae, aponeuro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ous (dense irregular CT): tensile strength when force is in many directions i.e. dermis of sk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286E-A824-431C-9D30-BF26742E0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 connective tiss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ilage: tough, elastic material found between bones of spine and at end of long bones where it acts as a shock absorber; also found in nose, ears, larynx; no nerves poor blood supply - heals poor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aline: embryonic skeleton, ends of long bones, costal cartilage of ribs, nose, trachea, laryn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stic: external ear (pinna), epiglott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ocartilage: intervertebral discs, pubic symphysis, discs of knee j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seus (Bone): similar to cartilage but has calcium salts, nerves, blood vessels; body structure, calcium stor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A891-58A9-4FB5-B3F1-30820FD22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tiss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special cells called neurons and neuroglia (supporting cell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s impulses throughout the bo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s to stimul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s up brain, spinal cord, and nerv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B6F7-A714-4D76-8062-ED0F5F4D7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tiss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cellular, well vasculariz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movement by contraction of muscle fibers (cell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: attaches to bones to provide movement; striated, volun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iac: causes heart to beat; striated, involunt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: in walls of hollow organs i.e. digestive tract, blood vessels; No striations, involu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E24E-512C-4EB3-8B63-A23A2007A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Tiss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-99% water with various substances dissolved in it (tissue flui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hydration: insufficient amount of tissue flu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ema: excess amount of tissue fluid - swel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: unassisted diffusion of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: solutions with concentrations of non-penetrating solutes equal to those in the cell i.e. 0.9% saline or 5% gluc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: solutions with high concentrations of non-penetrating solutes = crenation of cells due to loss of water from the cell (sometimes given in an IV to pull excess fluid from edematous patient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: solutions with lower concentrations of non-penetrating solutes = lysis due to continued rush of water into cell i.e. distilled water (used carefully to rehydrate extremely dehydrated patients; also in drinks such as colas, tea, and sports dr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2E24-1193-4291-9011-2ECD89122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ous: lines body cavities, “wet” membrane; absorption and secre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ous: lines closed body cavities and secretes serous fluid to protect from friction i.e. pleura, peritoneum, pericardiu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ovial: tough, fibrous tissue that lines the cavities of freely movable j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e fibrous: tough, opaque for protection i.e. dura mater, periosteum, scle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aneous: “dry” membrane; sk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BF9E-CC5E-40E4-AA88-9939437C0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thelial: covers surface of body and lining of intestinal, respiratory, urinary tracts, and other body cavities; forms gla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supporting “basement membrane” for p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thin sheets, not very stro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no blood vessels but depends on capillaries in underlying connective tiss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on i.e. sk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i.e. digestive tract lining and kidne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ration i.e. kidne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retion i.e. kidne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ion i.e. glands, kidne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reception i.e. sk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879C-906E-47DB-99CB-D0CDCF2BE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mous: “scale-like”, single layer, flat; dif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al: square, fat; secre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ar: tall, narrow; absorption, secretion; goblet = mucus; cil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eudostratified: single layer of differing heights; secretion; goblet cells; cil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tified: multiple cell layers; p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andular: make and secrete a particular pro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rine: no ducts; horm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crine: ducts; mucous, sweat, oil, salivary, liver, pancre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CBA3-957C-4EA7-9D85-271F4F009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 tiss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ing framework of organs and other body par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separated cells and abundant intercellular matr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s in matrix: collagen, elastic, ret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119D-B56A-49BD-B6D7-95B64594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1BB-C4C4-4DD2-BF4D-2F339699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236-549D-4EA4-A127-4448FEA2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D3E0-FF41-424E-9E60-80D050EE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56EA-FC02-46AE-A5C1-9F01D204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EDDF-BF8E-4F79-9263-60FF5210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1D46-D3D4-4261-BEEA-72CA3B3F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F8C7-CCC7-4436-A3F7-DB4F4B87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5FA3-CB14-4195-9412-6079C35B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864A-B034-4AD7-8DA6-08F18F64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D5D5-1B1E-49E0-81C0-5CC6C342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BF8-A526-4AE7-B763-0C7F2CD3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9E76-F1D6-48BB-993D-A98FEEC2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E023-F456-45B4-9B37-BF25BB33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B0A5-898A-487B-928C-3B7A4333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C09A-9A99-41FC-9259-66920ECE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B4B7-E614-4DB1-A64B-46CC85B6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ADE2-02AF-470F-BEA9-B8017CB9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D677-A1BD-4121-8F64-46A73CAD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E56-F007-43AF-80E0-B56654AE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7BA-381B-460C-8471-72A8B05A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D3D-8B57-48D1-9CEE-87560550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418-459B-4970-8821-3CA314D5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45D0-C7BB-4682-B0FB-7C0F8B36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1" marL="438120" indent="-168480"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2" marL="674280" indent="-134640">
              <a:spcBef>
                <a:spcPts val="1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943920" indent="-134640">
              <a:spcBef>
                <a:spcPts val="1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4" marL="1213560" indent="-134640">
              <a:spcBef>
                <a:spcPts val="134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5" marL="1213560" indent="-134640">
              <a:spcBef>
                <a:spcPts val="1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6" marL="1213560" indent="-134640">
              <a:spcBef>
                <a:spcPts val="1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882B-C986-4C20-B2B9-E24FE1EA3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1" marL="438120" indent="-168480">
              <a:spcBef>
                <a:spcPts val="1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2" marL="674280" indent="-134640">
              <a:spcBef>
                <a:spcPts val="1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943920" indent="-134640">
              <a:spcBef>
                <a:spcPts val="1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4" marL="1213560" indent="-134640">
              <a:spcBef>
                <a:spcPts val="134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5" marL="1213560" indent="-134640">
              <a:spcBef>
                <a:spcPts val="1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6" marL="1213560" indent="-134640">
              <a:spcBef>
                <a:spcPts val="134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004D-6D9C-4704-A091-D158355D296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99"/>
                </a:solidFill>
                <a:latin typeface="Tahoma"/>
              </a:rPr>
              <a:t>Tissues</a:t>
            </a:r>
            <a:endParaRPr b="0" lang="en-US" sz="8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Soft Connective Tissue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3915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Areola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Adipos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ticula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Fibrou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nse Regul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ense Irregul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Adipose Tissue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5" descr="adipose tissue"/>
          <p:cNvPicPr/>
          <p:nvPr/>
        </p:nvPicPr>
        <p:blipFill>
          <a:blip r:embed="rId1"/>
          <a:srcRect l="0" t="0" r="22985" b="0"/>
          <a:stretch/>
        </p:blipFill>
        <p:spPr>
          <a:xfrm>
            <a:off x="1295280" y="1887480"/>
            <a:ext cx="541044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Reticular CT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Picture 4" descr="areolar connective tissue"/>
          <p:cNvPicPr/>
          <p:nvPr/>
        </p:nvPicPr>
        <p:blipFill>
          <a:blip r:embed="rId1"/>
          <a:srcRect l="0" t="28892" r="0" b="0"/>
          <a:stretch/>
        </p:blipFill>
        <p:spPr>
          <a:xfrm>
            <a:off x="1295280" y="1905120"/>
            <a:ext cx="5715000" cy="47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Dense Regular CT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5" descr="dense regular connective"/>
          <p:cNvPicPr/>
          <p:nvPr/>
        </p:nvPicPr>
        <p:blipFill>
          <a:blip r:embed="rId1"/>
          <a:srcRect l="0" t="66098" r="0" b="0"/>
          <a:stretch/>
        </p:blipFill>
        <p:spPr>
          <a:xfrm>
            <a:off x="76320" y="2590920"/>
            <a:ext cx="8915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Dense Irregular CT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Picture 4" descr="dense irregular connective tissue"/>
          <p:cNvPicPr/>
          <p:nvPr/>
        </p:nvPicPr>
        <p:blipFill>
          <a:blip r:embed="rId1"/>
          <a:srcRect l="0" t="0" r="10093" b="20488"/>
          <a:stretch/>
        </p:blipFill>
        <p:spPr>
          <a:xfrm>
            <a:off x="1219320" y="1828800"/>
            <a:ext cx="7467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rd Connective Tissue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artilag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yalin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1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ibrocartilag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Osseou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artilage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Picture 4" descr="cartilage"/>
          <p:cNvPicPr/>
          <p:nvPr/>
        </p:nvPicPr>
        <p:blipFill>
          <a:blip r:embed="rId1"/>
          <a:stretch/>
        </p:blipFill>
        <p:spPr>
          <a:xfrm>
            <a:off x="1219320" y="186696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Osseous CT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Picture 4" descr="compact bone"/>
          <p:cNvPicPr/>
          <p:nvPr/>
        </p:nvPicPr>
        <p:blipFill>
          <a:blip r:embed="rId1"/>
          <a:srcRect l="1853" t="1852" r="1853" b="17901"/>
          <a:stretch/>
        </p:blipFill>
        <p:spPr>
          <a:xfrm>
            <a:off x="1143000" y="1828800"/>
            <a:ext cx="7924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Nervous Tissue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ypes of Cell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cation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Muscle Tissue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ardiac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moo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kelet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haracteristic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60-99% water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Dehydratio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Edema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Osmosi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onicit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ardiac Muscle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Picture 5" descr="cardiac muscle"/>
          <p:cNvPicPr/>
          <p:nvPr/>
        </p:nvPicPr>
        <p:blipFill>
          <a:blip r:embed="rId1"/>
          <a:stretch/>
        </p:blipFill>
        <p:spPr>
          <a:xfrm>
            <a:off x="1295280" y="1870200"/>
            <a:ext cx="716292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Smooth Muscle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Picture 6" descr="smooth muscle"/>
          <p:cNvPicPr/>
          <p:nvPr/>
        </p:nvPicPr>
        <p:blipFill>
          <a:blip r:embed="rId1"/>
          <a:stretch/>
        </p:blipFill>
        <p:spPr>
          <a:xfrm>
            <a:off x="1219320" y="1905120"/>
            <a:ext cx="70866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Skeletal Muscle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Picture 4" descr="skeletal muscle"/>
          <p:cNvPicPr/>
          <p:nvPr/>
        </p:nvPicPr>
        <p:blipFill>
          <a:blip r:embed="rId1"/>
          <a:stretch/>
        </p:blipFill>
        <p:spPr>
          <a:xfrm>
            <a:off x="1295280" y="1828800"/>
            <a:ext cx="739152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Membrane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ombination tissues of ET and C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Membrane Type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ucou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rou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ynovial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Dense fibrou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utaneou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Organ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Groups of tissues with a similar func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Integumentary Syst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ki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ody Temp Control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nsor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Excretion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Skeletal System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2017800"/>
            <a:ext cx="377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Movemen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0" name="Picture 4" descr="Picture 113"/>
          <p:cNvPicPr/>
          <p:nvPr/>
        </p:nvPicPr>
        <p:blipFill>
          <a:blip r:embed="rId1"/>
          <a:stretch/>
        </p:blipFill>
        <p:spPr>
          <a:xfrm>
            <a:off x="4267080" y="2179800"/>
            <a:ext cx="48769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23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Muscular </a:t>
            </a:r>
            <a:br>
              <a:rPr sz="6000"/>
            </a:b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System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Movemen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Picture 082"/>
          <p:cNvPicPr/>
          <p:nvPr/>
        </p:nvPicPr>
        <p:blipFill>
          <a:blip r:embed="rId1"/>
          <a:stretch/>
        </p:blipFill>
        <p:spPr>
          <a:xfrm>
            <a:off x="5765760" y="241200"/>
            <a:ext cx="314964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Nervous System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nsory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4" descr="Picture 084"/>
          <p:cNvPicPr/>
          <p:nvPr/>
        </p:nvPicPr>
        <p:blipFill>
          <a:blip r:embed="rId1"/>
          <a:stretch/>
        </p:blipFill>
        <p:spPr>
          <a:xfrm>
            <a:off x="4038480" y="1731960"/>
            <a:ext cx="51055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Types of Tissue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pitheli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onnectiv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ervou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Muscl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Endocrine System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Cardiovascular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Syst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4" descr="Picture 036"/>
          <p:cNvPicPr/>
          <p:nvPr/>
        </p:nvPicPr>
        <p:blipFill>
          <a:blip r:embed="rId1"/>
          <a:srcRect l="5723" t="3372" r="5550" b="0"/>
          <a:stretch/>
        </p:blipFill>
        <p:spPr>
          <a:xfrm>
            <a:off x="6291360" y="0"/>
            <a:ext cx="247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11286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Lymphatic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Immune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Syst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4419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4" descr="Picture 065"/>
          <p:cNvPicPr/>
          <p:nvPr/>
        </p:nvPicPr>
        <p:blipFill>
          <a:blip r:embed="rId1"/>
          <a:srcRect l="5636" t="4447" r="5592" b="0"/>
          <a:stretch/>
        </p:blipFill>
        <p:spPr>
          <a:xfrm>
            <a:off x="5257800" y="0"/>
            <a:ext cx="334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Respiratory System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Gas Exchang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Picture 101"/>
          <p:cNvPicPr/>
          <p:nvPr/>
        </p:nvPicPr>
        <p:blipFill>
          <a:blip r:embed="rId1"/>
          <a:stretch/>
        </p:blipFill>
        <p:spPr>
          <a:xfrm>
            <a:off x="4191120" y="1816200"/>
            <a:ext cx="480060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Digestive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Syst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Process food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utrient absorp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5" descr="Picture 047"/>
          <p:cNvPicPr/>
          <p:nvPr/>
        </p:nvPicPr>
        <p:blipFill>
          <a:blip r:embed="rId1"/>
          <a:srcRect l="13788" t="4496" r="5558" b="0"/>
          <a:stretch/>
        </p:blipFill>
        <p:spPr>
          <a:xfrm>
            <a:off x="5410080" y="0"/>
            <a:ext cx="37339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Urinary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Syst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320" y="201780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Maintains water and electrolyte balanc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Picture 4" descr="Picture 055"/>
          <p:cNvPicPr/>
          <p:nvPr/>
        </p:nvPicPr>
        <p:blipFill>
          <a:blip r:embed="rId1"/>
          <a:srcRect l="1640" t="4494" r="11314" b="0"/>
          <a:stretch/>
        </p:blipFill>
        <p:spPr>
          <a:xfrm>
            <a:off x="3684600" y="762120"/>
            <a:ext cx="5459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Reproductive System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Production of offspring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Epithelial Tissue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uppor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haracteristic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Epithelial Tissue Cell Type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quamou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uboid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umn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seudostratifi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ratifie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landul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Squamous Epithelium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5" descr="simple squamous epithelium"/>
          <p:cNvPicPr/>
          <p:nvPr/>
        </p:nvPicPr>
        <p:blipFill>
          <a:blip r:embed="rId1"/>
          <a:srcRect l="29350" t="22648" r="20654" b="20295"/>
          <a:stretch/>
        </p:blipFill>
        <p:spPr>
          <a:xfrm>
            <a:off x="1447920" y="1905120"/>
            <a:ext cx="5608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uboidal Epithelium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5" descr="simple cuboidal epithelium"/>
          <p:cNvPicPr/>
          <p:nvPr/>
        </p:nvPicPr>
        <p:blipFill>
          <a:blip r:embed="rId1"/>
          <a:srcRect l="53276" t="0" r="11428" b="69538"/>
          <a:stretch/>
        </p:blipFill>
        <p:spPr>
          <a:xfrm>
            <a:off x="1219320" y="1981080"/>
            <a:ext cx="670536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olumnar Epithelium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5" descr="simple columnar epithelium"/>
          <p:cNvPicPr/>
          <p:nvPr/>
        </p:nvPicPr>
        <p:blipFill>
          <a:blip r:embed="rId1"/>
          <a:srcRect l="48268" t="17185" r="0" b="28912"/>
          <a:stretch/>
        </p:blipFill>
        <p:spPr>
          <a:xfrm>
            <a:off x="1371600" y="2014560"/>
            <a:ext cx="556272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99"/>
                </a:solidFill>
                <a:latin typeface="Tahoma"/>
              </a:rPr>
              <a:t>Connective Tissue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uppor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Matrix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15:06:42Z</dcterms:created>
  <dc:creator>Administrator</dc:creator>
  <dc:description/>
  <dc:language>en-US</dc:language>
  <cp:lastModifiedBy>jh</cp:lastModifiedBy>
  <dcterms:modified xsi:type="dcterms:W3CDTF">2010-09-25T19:20:11Z</dcterms:modified>
  <cp:revision>3</cp:revision>
  <dc:subject/>
  <dc:title>Tissues</dc:title>
</cp:coreProperties>
</file>